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AF35-EA00-4A72-A3D0-2EEF10156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7151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280" y="3582360"/>
            <a:ext cx="77151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8155-56F9-451B-B7A6-9B4B0E865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80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D42E-8348-422B-8E38-897EDDC96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3840" y="206064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2400" y="206064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280" y="358236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3840" y="358236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2400" y="358236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0FCA-A640-4128-A29A-A45F79950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567C-5003-4404-9E48-B87944563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2060640"/>
            <a:ext cx="771516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8A4D-423F-4EA6-9454-3DE2AF367D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71516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D6FF-B469-4958-9A46-26EE17473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204C-7C40-4CF9-84C5-D2B1285532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3887-3DD2-4EEB-A6FB-DB3BC649A9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2967-90DD-4C66-8A43-045237617C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28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E4E3-A035-4AC4-A1CD-21B2D8A1B7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280" y="2060640"/>
            <a:ext cx="771516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602A-EAF3-46F9-B2E7-E33E4B8AC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0880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A186-F9B1-43F1-827F-53AADBF51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280" y="3582360"/>
            <a:ext cx="77151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0EFB-A9C0-44B5-9BF0-63ABBCE9FD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7151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280" y="3582360"/>
            <a:ext cx="77151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EA97-744D-48F9-B9ED-80799DA5AD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28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0880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40D0-BD4D-4720-BEA0-EBAE55F571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3840" y="206064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2400" y="206064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280" y="358236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3840" y="358236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2400" y="3582360"/>
            <a:ext cx="2484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1C5D-436E-4C91-9C4F-4C97B049B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71516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FABB-5BAC-499C-8179-28910F532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83EA-9631-4C59-BA43-A364FFF55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D890-DBDF-42C4-A268-94541EC78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6BDB-4036-410F-B7E5-1938AAEAE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28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3EE9-D537-4C47-AC55-C3C09F38F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800" y="358236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5004-8709-423B-8D2A-D58E25852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2060640"/>
            <a:ext cx="376488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280" y="3582360"/>
            <a:ext cx="77151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D6A6-DC47-43A6-8906-3B4D977A0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060640"/>
            <a:ext cx="771516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16720" y="6265440"/>
            <a:ext cx="43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66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3D5-1AFC-441F-B19F-1572851B2CD2}" type="slidenum">
              <a:rPr b="0" lang="it-IT" sz="1400" spc="-1" strike="noStrike">
                <a:solidFill>
                  <a:srgbClr val="66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2060640"/>
            <a:ext cx="771516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66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E2C0-F1BB-4157-9316-05FEA8C9D789}" type="slidenum">
              <a:rPr b="0" lang="it-IT" sz="1400" spc="-1" strike="noStrike">
                <a:solidFill>
                  <a:srgbClr val="66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4440" y="2133720"/>
            <a:ext cx="8472600" cy="21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ocumentazione didattica</a:t>
            </a:r>
            <a:r>
              <a:rPr b="1" i="1" lang="it-IT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br>
              <a:rPr sz="1200"/>
            </a:br>
            <a:r>
              <a:rPr b="1" i="1" lang="it-IT" sz="4000" spc="-1" strike="noStrike">
                <a:solidFill>
                  <a:srgbClr val="ccffff"/>
                </a:solidFill>
                <a:latin typeface="Arial"/>
              </a:rPr>
              <a:t>Stage formativi pediatrici di base</a:t>
            </a:r>
            <a:br>
              <a:rPr sz="4000"/>
            </a:br>
            <a:r>
              <a:rPr b="1" i="1" lang="it-IT" sz="4000" spc="-1" strike="noStrike">
                <a:solidFill>
                  <a:srgbClr val="ccffff"/>
                </a:solidFill>
                <a:latin typeface="Arial"/>
              </a:rPr>
              <a:t>sulle Grandi Emergenz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 cura di G. Messi, A. Masetti e R. Peressutt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92000" y="299880"/>
            <a:ext cx="756144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4983120"/>
                <a:tab algn="l" pos="9966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MISSIONE  NAZIONALE MAXIEMERGENZ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4983120"/>
                <a:tab algn="l" pos="996624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ocietà Italiana Emergenza Urgenza Pediatrica (SIME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4983120"/>
                <a:tab algn="l" pos="996624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vellino 9-11 maggio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11280" y="5950080"/>
            <a:ext cx="7921440" cy="7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Raccolta da eventi  d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gliano,  settembre 2005 - Caserta,  aprile 2006 - Gubbio ,  april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astelforte, luglio 2008 – Messina, ottobre 2008 – Rovigo, settembr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magine 1" descr=""/>
          <p:cNvPicPr/>
          <p:nvPr/>
        </p:nvPicPr>
        <p:blipFill>
          <a:blip r:embed="rId1"/>
          <a:stretch/>
        </p:blipFill>
        <p:spPr>
          <a:xfrm>
            <a:off x="425520" y="299880"/>
            <a:ext cx="946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4"/>
          <p:cNvSpPr/>
          <p:nvPr/>
        </p:nvSpPr>
        <p:spPr>
          <a:xfrm>
            <a:off x="1150920" y="368280"/>
            <a:ext cx="7561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Gli Stage erano stati patrocinati da: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9"/>
          <p:cNvGrpSpPr/>
          <p:nvPr/>
        </p:nvGrpSpPr>
        <p:grpSpPr>
          <a:xfrm>
            <a:off x="-1080" y="1268280"/>
            <a:ext cx="4320720" cy="983880"/>
            <a:chOff x="-1080" y="1268280"/>
            <a:chExt cx="4320720" cy="983880"/>
          </a:xfrm>
        </p:grpSpPr>
        <p:sp>
          <p:nvSpPr>
            <p:cNvPr id="85" name="Rectangle 11"/>
            <p:cNvSpPr/>
            <p:nvPr/>
          </p:nvSpPr>
          <p:spPr>
            <a:xfrm flipV="1" rot="10781400">
              <a:off x="0" y="1970640"/>
              <a:ext cx="16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S.I.M.E.U.P</a:t>
              </a:r>
              <a:r>
                <a:rPr b="1" lang="it-IT" sz="1200" spc="-1" strike="noStrike">
                  <a:solidFill>
                    <a:srgbClr val="ff0000"/>
                  </a:solidFill>
                  <a:latin typeface="Comic Sans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619280" y="1268280"/>
              <a:ext cx="270036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Società Italiana Medic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Emergenza Urgenza Pediat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6"/>
          <p:cNvGrpSpPr/>
          <p:nvPr/>
        </p:nvGrpSpPr>
        <p:grpSpPr>
          <a:xfrm>
            <a:off x="431640" y="2921040"/>
            <a:ext cx="3959280" cy="1232280"/>
            <a:chOff x="431640" y="2921040"/>
            <a:chExt cx="3959280" cy="1232280"/>
          </a:xfrm>
        </p:grpSpPr>
        <p:grpSp>
          <p:nvGrpSpPr>
            <p:cNvPr id="88" name="Group 16"/>
            <p:cNvGrpSpPr/>
            <p:nvPr/>
          </p:nvGrpSpPr>
          <p:grpSpPr>
            <a:xfrm>
              <a:off x="431640" y="2921040"/>
              <a:ext cx="990360" cy="1232280"/>
              <a:chOff x="431640" y="2921040"/>
              <a:chExt cx="990360" cy="1232280"/>
            </a:xfrm>
          </p:grpSpPr>
          <p:pic>
            <p:nvPicPr>
              <p:cNvPr id="89" name="Picture 6" descr="sip"/>
              <p:cNvPicPr/>
              <p:nvPr/>
            </p:nvPicPr>
            <p:blipFill>
              <a:blip r:embed="rId1"/>
              <a:stretch/>
            </p:blipFill>
            <p:spPr>
              <a:xfrm>
                <a:off x="431640" y="2921040"/>
                <a:ext cx="990360" cy="9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Rectangle 10"/>
              <p:cNvSpPr/>
              <p:nvPr/>
            </p:nvSpPr>
            <p:spPr>
              <a:xfrm>
                <a:off x="573480" y="3846240"/>
                <a:ext cx="68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S.I.P</a:t>
                </a:r>
                <a:r>
                  <a:rPr b="1" lang="it-IT" sz="14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20"/>
            <p:cNvSpPr/>
            <p:nvPr/>
          </p:nvSpPr>
          <p:spPr>
            <a:xfrm>
              <a:off x="1690560" y="3315960"/>
              <a:ext cx="270036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Società Italiana di Pediat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7"/>
          <p:cNvGrpSpPr/>
          <p:nvPr/>
        </p:nvGrpSpPr>
        <p:grpSpPr>
          <a:xfrm>
            <a:off x="4572000" y="5950080"/>
            <a:ext cx="3960720" cy="539640"/>
            <a:chOff x="4572000" y="5950080"/>
            <a:chExt cx="3960720" cy="539640"/>
          </a:xfrm>
        </p:grpSpPr>
        <p:sp>
          <p:nvSpPr>
            <p:cNvPr id="93" name="Text Box 13"/>
            <p:cNvSpPr/>
            <p:nvPr/>
          </p:nvSpPr>
          <p:spPr>
            <a:xfrm>
              <a:off x="4572000" y="6005520"/>
              <a:ext cx="184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A.O.P.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1"/>
            <p:cNvSpPr/>
            <p:nvPr/>
          </p:nvSpPr>
          <p:spPr>
            <a:xfrm>
              <a:off x="6192720" y="5950080"/>
              <a:ext cx="2340000" cy="53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ssociazione Itali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Ospedali Pediatri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8"/>
          <p:cNvGrpSpPr/>
          <p:nvPr/>
        </p:nvGrpSpPr>
        <p:grpSpPr>
          <a:xfrm>
            <a:off x="431640" y="5049720"/>
            <a:ext cx="3600720" cy="900360"/>
            <a:chOff x="431640" y="5049720"/>
            <a:chExt cx="3600720" cy="900360"/>
          </a:xfrm>
        </p:grpSpPr>
        <p:grpSp>
          <p:nvGrpSpPr>
            <p:cNvPr id="96" name="Group 7"/>
            <p:cNvGrpSpPr/>
            <p:nvPr/>
          </p:nvGrpSpPr>
          <p:grpSpPr>
            <a:xfrm>
              <a:off x="431640" y="5049720"/>
              <a:ext cx="900360" cy="900360"/>
              <a:chOff x="431640" y="5049720"/>
              <a:chExt cx="900360" cy="900360"/>
            </a:xfrm>
          </p:grpSpPr>
          <p:pic>
            <p:nvPicPr>
              <p:cNvPr id="97" name="Picture 8" descr="!BURLO"/>
              <p:cNvPicPr/>
              <p:nvPr/>
            </p:nvPicPr>
            <p:blipFill>
              <a:blip r:embed="rId2"/>
              <a:stretch/>
            </p:blipFill>
            <p:spPr>
              <a:xfrm>
                <a:off x="431640" y="5049720"/>
                <a:ext cx="900360" cy="9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Oval 9"/>
              <p:cNvSpPr/>
              <p:nvPr/>
            </p:nvSpPr>
            <p:spPr>
              <a:xfrm>
                <a:off x="871920" y="5398920"/>
                <a:ext cx="434520" cy="363600"/>
              </a:xfrm>
              <a:prstGeom prst="ellipse">
                <a:avLst/>
              </a:prstGeom>
              <a:solidFill>
                <a:srgbClr val="59e1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22"/>
            <p:cNvSpPr/>
            <p:nvPr/>
          </p:nvSpPr>
          <p:spPr>
            <a:xfrm>
              <a:off x="1690560" y="5229360"/>
              <a:ext cx="234180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IRCCS Burlo Garofo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-Trie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5102280" y="4149720"/>
            <a:ext cx="3430440" cy="909720"/>
            <a:chOff x="5102280" y="4149720"/>
            <a:chExt cx="3430440" cy="909720"/>
          </a:xfrm>
        </p:grpSpPr>
        <p:pic>
          <p:nvPicPr>
            <p:cNvPr id="101" name="Picture 29" descr="STEMMAdifesan"/>
            <p:cNvPicPr/>
            <p:nvPr/>
          </p:nvPicPr>
          <p:blipFill>
            <a:blip r:embed="rId3"/>
            <a:stretch/>
          </p:blipFill>
          <p:spPr>
            <a:xfrm>
              <a:off x="5102280" y="4149720"/>
              <a:ext cx="7300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30"/>
            <p:cNvSpPr/>
            <p:nvPr/>
          </p:nvSpPr>
          <p:spPr>
            <a:xfrm>
              <a:off x="6192720" y="4329000"/>
              <a:ext cx="2340000" cy="540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irezione Genera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Sanita’ Milit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6"/>
          <p:cNvGrpSpPr/>
          <p:nvPr/>
        </p:nvGrpSpPr>
        <p:grpSpPr>
          <a:xfrm>
            <a:off x="4932360" y="1989000"/>
            <a:ext cx="3600360" cy="900360"/>
            <a:chOff x="4932360" y="1989000"/>
            <a:chExt cx="3600360" cy="900360"/>
          </a:xfrm>
        </p:grpSpPr>
        <p:pic>
          <p:nvPicPr>
            <p:cNvPr id="104" name="Picture 27" descr="logo Prot"/>
            <p:cNvPicPr/>
            <p:nvPr/>
          </p:nvPicPr>
          <p:blipFill>
            <a:blip r:embed="rId4"/>
            <a:stretch/>
          </p:blipFill>
          <p:spPr>
            <a:xfrm>
              <a:off x="4932360" y="1989000"/>
              <a:ext cx="90000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4"/>
            <p:cNvSpPr/>
            <p:nvPr/>
          </p:nvSpPr>
          <p:spPr>
            <a:xfrm>
              <a:off x="6192720" y="2168640"/>
              <a:ext cx="2340000" cy="53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iperti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ella Protezione Civ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Immagine 1" descr=""/>
          <p:cNvPicPr/>
          <p:nvPr/>
        </p:nvPicPr>
        <p:blipFill>
          <a:blip r:embed="rId5"/>
          <a:stretch/>
        </p:blipFill>
        <p:spPr>
          <a:xfrm>
            <a:off x="447840" y="1144440"/>
            <a:ext cx="7315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8317080" y="6265800"/>
            <a:ext cx="43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640E-CD6A-47CD-A344-5D3BCF223DF7}" type="slidenum">
              <a:rPr b="0" lang="it-IT" sz="1400" spc="-1" strike="noStrike">
                <a:solidFill>
                  <a:srgbClr val="66ff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dice autori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89444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Organizzazione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ipologia delle catastrof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tastrofi naturali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. Peressu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tastrofi antropiche 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A. Vi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tastrofi conflittuali e sociali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. Peressu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atena dei soccorsi sanitari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iage  di massa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Triage per popolazione adu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Triage Pediatr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imo intervento sanitari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’autoprotezione del soccorritor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. Peressutt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MA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. Poggi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MA  di 1° Livello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MA di 2° live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vacuazione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ampo profugh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tress e problemi di Psicologia nelle emergenze di massa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. Puiatt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oblemi sociologici nel soccorso in aree lontan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A. Masett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Analisi di eventi  in area Europea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. Peressutt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mergenza ospedaliera per massiccio afflusso di ferit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. Mess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Organizzazione per l’emergenza nel territori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. Peressutt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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Bibliografia general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. Peressutt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3:07:27Z</dcterms:created>
  <dc:creator>pronto</dc:creator>
  <dc:description/>
  <dc:language>en-US</dc:language>
  <cp:lastModifiedBy>Gianni Messi</cp:lastModifiedBy>
  <dcterms:modified xsi:type="dcterms:W3CDTF">2019-04-24T11:30:44Z</dcterms:modified>
  <cp:revision>323</cp:revision>
  <dc:subject/>
  <dc:title>Diapositiva 1</dc:title>
</cp:coreProperties>
</file>